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D74-4C27-4F32-AEE5-0EBEDA89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E2C-011F-49A9-BDC1-CD96853B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4FA-275E-4E78-80F6-3D8637A0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87E0-E104-4192-BD0E-644D9878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71F-4180-4C19-B5F3-DAF57E32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376D-4E5B-4B4C-AFE0-31A60A08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D15-920D-4B0A-9910-1202432B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EA06-4FBD-44EE-A90C-ECCC9AD9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226C-908C-40D8-9631-76B2E5FE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4C75-F084-4D50-AC49-1FF602AA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8679-EC41-4306-B008-266BB352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C78-11F6-4F0C-846C-129AFAF7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684E-D90F-476C-A254-95749F3C4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taatem.net/words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www.bubbleshare.com/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Conference with Sk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4343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54864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webcam software on your computer.  When you call someone, click start my vid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ll with Flickr http://www.metaatem.net/words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n a word and this cute little program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through Flickr to locate pictures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schill.wikispace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981080"/>
            <a:ext cx="110520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White Capital \&quot;O\&quot; Stenciled on a Brick Wall (Silver Spring, MD)"/>
          <p:cNvPicPr/>
          <p:nvPr/>
        </p:nvPicPr>
        <p:blipFill>
          <a:blip r:embed="rId3"/>
          <a:stretch/>
        </p:blipFill>
        <p:spPr>
          <a:xfrm>
            <a:off x="3733920" y="1981080"/>
            <a:ext cx="83808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L"/>
          <p:cNvPicPr/>
          <p:nvPr/>
        </p:nvPicPr>
        <p:blipFill>
          <a:blip r:embed="rId4"/>
          <a:stretch/>
        </p:blipFill>
        <p:spPr>
          <a:xfrm>
            <a:off x="6019920" y="1981080"/>
            <a:ext cx="83808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C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90920" y="19810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bblesha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www.bubbleshare.com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14398" r="0" b="11999"/>
          <a:stretch/>
        </p:blipFill>
        <p:spPr>
          <a:xfrm>
            <a:off x="228600" y="1523880"/>
            <a:ext cx="8686800" cy="3124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4572000"/>
            <a:ext cx="86868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create new album and type in a name for your album. Upload your pictures and select a theme and hit next.  Edit your page by adding graphics or words.  Preview album if you like it hit blog album.  This will give a code to be embedded on blog or wik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les.tcboe.org/?PageName='TeacherPage'&amp;Page='ClassActivities'&amp;StaffID='589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chill.wikispaces.com/Disasters+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lipboar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w.qlipmedia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13199" r="0" b="0"/>
          <a:stretch/>
        </p:blipFill>
        <p:spPr>
          <a:xfrm>
            <a:off x="304920" y="1523880"/>
            <a:ext cx="8610480" cy="3429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5106960"/>
            <a:ext cx="86868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this program to your computer. This is a easy way to voice thread, and This program makes great pres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les.tcboe.org/?PageName='TeacherPage'&amp;Page='Assignments'&amp;StaffID='589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1:37:28Z</dcterms:created>
  <dc:creator>Shannon Hill</dc:creator>
  <dc:description/>
  <dc:language>en-US</dc:language>
  <cp:lastModifiedBy>Shannon Hill</cp:lastModifiedBy>
  <dcterms:modified xsi:type="dcterms:W3CDTF">2008-11-25T03:44:46Z</dcterms:modified>
  <cp:revision>7</cp:revision>
  <dc:subject/>
  <dc:title>Slide 1</dc:title>
</cp:coreProperties>
</file>